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FE32-2A05-4BE9-9312-F4BC3C1A3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2B57-68A3-4174-A597-A71094471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D1A4-E719-453A-A074-BAB4AA37C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D064-FF75-463F-A66B-DC2E96B45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A8AC-7CCC-4568-8A9F-B5BB1B07C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4867-890A-4241-9AAD-4497332FB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4620-D947-4222-AC60-48D575352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C90C-161D-4AEC-A137-551D4317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2E34-2A8C-4431-9389-F231565E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B248-305B-4973-A4F1-69A4307A8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1355-14B7-4402-987B-9336B7CE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79C6-C0A7-4530-B7AF-78825E2C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01D6-94BB-4AA4-8BB8-40D85B95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3390-7820-4335-9A20-A607E53B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856F-A90B-4BBF-806B-5D1DCA93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C13B-B27D-4825-A8E3-EC119E78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857B-DC9A-4471-B59D-55538248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A262-171C-4811-B44B-621AB0F6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B6D3-A2FC-4857-AA9F-97741A25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E78C-4564-4AE1-B066-9DCEE54B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2F2A-7A17-41C4-926A-4DFE6CAA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F404-F4E8-43A5-A652-C7039EFA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CE03-10F5-4E7F-8691-C64BBA86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8C0F-AC7F-43A0-B0D4-10A9D11E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16A6-0420-46E2-B7C3-4E9925E0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B3A5-7EDB-4EF5-A8A9-B5D25608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350D-624E-47CF-8625-8DE3D431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D2BC-326A-4EEF-A0A8-DF49E4B1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43A5-F439-488B-929D-EF28C5C1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12BD-78BE-42C2-8CAD-E9F05C28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7DEF-51BD-40F9-817D-9C8D39DD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E477-8691-445A-8367-DFABA4504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My Documents\My Webs\soniacoleman\PowerPoint Templates\Templates9\Leaf\leaf_title.jpg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17D7-F29F-42B4-A14A-03C2D61ED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ercents, Fractions, and Decim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raction by any other name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erc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a ratio that compares a number to 100.  It means “per 100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9 out of 100 is 49%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CENT:  PART OF 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Percents as Dec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a decimal point in the place of the percent sign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ve the decimal two spaces to the lef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e same as dividing by 10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990720" y="380988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6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>
            <a:off x="3124080" y="42670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800600" y="379404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2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990720" y="486108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3124080" y="5334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4724280" y="486108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>
            <a:off x="5943600" y="5334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934320" y="48610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1066680" y="577548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3"/>
          <p:cNvSpPr/>
          <p:nvPr/>
        </p:nvSpPr>
        <p:spPr>
          <a:xfrm>
            <a:off x="2666880" y="6248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4952880" y="569916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0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Percents as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the percent in a fracti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a denominator of 1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 the f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38080" y="320040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6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2666880" y="3733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3809880" y="3809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962520" y="32004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809880" y="37018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502920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095880" y="3200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6095880" y="37018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838080" y="455616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4"/>
          <p:cNvSpPr/>
          <p:nvPr/>
        </p:nvSpPr>
        <p:spPr>
          <a:xfrm>
            <a:off x="26668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"/>
          <p:cNvSpPr/>
          <p:nvPr/>
        </p:nvSpPr>
        <p:spPr>
          <a:xfrm>
            <a:off x="388620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4038480" y="44197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3886200" y="49212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>
            <a:off x="5105520" y="5029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6019920" y="5029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6172200" y="44197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6172200" y="49212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Decimals as Perc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he decimal poi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spaces to the r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add a % symbol (this is the same as multiplying by 10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33520" y="320040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3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1981080" y="3733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276720" y="312408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33520" y="402264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1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198108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3200400" y="394668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533520" y="470844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1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2286000" y="5257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3200400" y="470844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762120" y="55627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1752480" y="60958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3276720" y="554688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5562720" y="312408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7"/>
          <p:cNvSpPr/>
          <p:nvPr/>
        </p:nvSpPr>
        <p:spPr>
          <a:xfrm>
            <a:off x="617220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6781680" y="318456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Fractions as Perc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ide the numerator by the denominator to get a deci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decimal to a percent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ving the decimal point to the righ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ultiply by 10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838080" y="41911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685800" y="4876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85800" y="478476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1828800" y="4876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048120" y="46324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.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426708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5410080" y="46324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2:15:19Z</dcterms:created>
  <dc:creator>Josh Hammond</dc:creator>
  <dc:description/>
  <dc:language>en-US</dc:language>
  <cp:lastModifiedBy>Home</cp:lastModifiedBy>
  <dcterms:modified xsi:type="dcterms:W3CDTF">2010-11-14T16:47:02Z</dcterms:modified>
  <cp:revision>14</cp:revision>
  <dc:subject/>
  <dc:title>Percents, Fractions, and Decimals</dc:title>
</cp:coreProperties>
</file>